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1C7-E21B-4FA9-BA7F-D6BB35B6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8BB-0720-407E-B12F-F526D5EA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20A-6AE9-4F97-866F-D85F0D41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F48-8E1D-4602-A686-BC2C34AD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6E1-6400-4BE0-A847-9CAF8070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739-7E95-4773-86EF-318B164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2E6-DA87-4DBF-A2E0-D657C99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4A2-B7C9-4739-8083-D618EC7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818-97BC-49F6-9A36-BD896509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40A-96C7-4154-89A7-ECB37A6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801-EF9E-4E01-A54E-8A8597B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4ED-7BA6-4547-BA79-FA529515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729-B07F-4F9C-8A92-DEA5EB83D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06207kQXBgfdFwz_ph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91540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أنا لأصيرَ من شعبِك   من دُعيَ عليه اس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جباً هل دعوتني أنا   لأكونَ ملكاً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786BKgRhTuZiB_ph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752480" cy="86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 لغريبٍ لضالٍ أثيمٍ أن ينتمي للم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َّرفتني كم أنَّك رحيم إذ غرزتني في كرمتِ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49828KifBGNXze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304920"/>
            <a:ext cx="274320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ظهرتَ لي عظيمَ رحمتكَ بسفكِ دماءِ الح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حُبُّكَ يفوقُ كلَّ خيالٍ وأعلنتَ لنا سرّ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ristwithchild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22860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جداً لكَ قد انشقَّ الحجاب وأعلنتَ لنا سرّ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آنَ أصرخُ يا آب الآب  مجداً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</a:rPr>
              <a:t>فقد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صرت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22:08Z</dcterms:created>
  <dc:creator>SUZANNE.MD</dc:creator>
  <dc:description/>
  <dc:language>en-US</dc:language>
  <cp:lastModifiedBy>USER</cp:lastModifiedBy>
  <dcterms:modified xsi:type="dcterms:W3CDTF">2003-02-08T07:41:51Z</dcterms:modified>
  <cp:revision>5</cp:revision>
  <dc:subject/>
  <dc:title>PowerPoint Presentation</dc:title>
</cp:coreProperties>
</file>